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B9DF-27A3-400B-B14A-3DD474A6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585E-36CE-429B-93F4-19A2259B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D58F-D852-4FC8-BF4F-B76AC4D3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E67-31BC-4431-A3BC-FCF10624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D33A-AEC0-4896-838D-2F5FE5C3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B0F-631E-49B1-93B0-FDD9BA60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F3BE-1F24-4FEF-8CE5-D79E1A9D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C80-B94D-4D2F-A48B-403A0125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F304-058C-4053-AB65-BB96DB50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AA55-A3B8-4C60-AE5D-3442D4AF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AEF3-2EEF-436D-BEF7-2E91C97E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F489-5448-4BC8-87FC-A83C0858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8AD6-2CB6-448E-B33F-315A66F66413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.th/imgres?q=&#3619;&#3641;&#3611;&#3585;&#3634;&#3619;&#3660;&#3605;&#3641;&#3609;&#3605;&#3657;&#3609;&#3652;&#3617;&#3657;&amp;start=63&amp;hl=th&amp;biw=802&amp;bih=346&amp;tbm=isch&amp;prmd=ivns&amp;tbnid=mmQ9ijmSiPwXgM:&amp;imgrefurl=http://www.oknation.net/blog/guide007/2008/01/19/entry-1&amp;imgurl=http://www.schuai.net/gotoknow/tree.jpg&amp;w=312&amp;h=474&amp;ei=EsHUTc_eB8SmrAfIz8zvCw&amp;zoom=1&amp;iact=rc&amp;dur=390&amp;sqi=2&amp;page=9&amp;tbnh=91&amp;tbnw=60&amp;ndsp=9&amp;ved=1t:429,r:5,s:63&amp;tx=35&amp;ty=16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.th/imgres?q=&#3619;&#3641;&#3611;&#3585;&#3634;&#3619;&#3660;&#3605;&#3641;&#3609;&#3605;&#3657;&#3609;&#3652;&#3617;&#3657;&amp;start=63&amp;hl=th&amp;biw=802&amp;bih=346&amp;tbm=isch&amp;prmd=ivns&amp;tbnid=mmQ9ijmSiPwXgM:&amp;imgrefurl=http://www.oknation.net/blog/guide007/2008/01/19/entry-1&amp;imgurl=http://www.schuai.net/gotoknow/tree.jpg&amp;w=312&amp;h=474&amp;ei=EsHUTc_eB8SmrAfIz8zvCw&amp;zoom=1&amp;iact=rc&amp;dur=390&amp;sqi=2&amp;page=9&amp;tbnh=91&amp;tbnw=60&amp;ndsp=9&amp;ved=1t:429,r:5,s:63&amp;tx=35&amp;ty=16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.th/imgres?q=&#3619;&#3641;&#3611;&#3585;&#3634;&#3619;&#3660;&#3605;&#3641;&#3609;&#3605;&#3657;&#3609;&#3652;&#3617;&#3657;&amp;start=63&amp;hl=th&amp;biw=802&amp;bih=346&amp;tbm=isch&amp;prmd=ivns&amp;tbnid=mmQ9ijmSiPwXgM:&amp;imgrefurl=http://www.oknation.net/blog/guide007/2008/01/19/entry-1&amp;imgurl=http://www.schuai.net/gotoknow/tree.jpg&amp;w=312&amp;h=474&amp;ei=EsHUTc_eB8SmrAfIz8zvCw&amp;zoom=1&amp;iact=rc&amp;dur=390&amp;sqi=2&amp;page=9&amp;tbnh=91&amp;tbnw=60&amp;ndsp=9&amp;ved=1t:429,r:5,s:63&amp;tx=35&amp;ty=16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th/imgres?q=&#3619;&#3641;&#3611;&#3585;&#3634;&#3619;&#3660;&#3605;&#3641;&#3609;&#3605;&#3657;&#3609;&#3652;&#3617;&#3657;&amp;start=63&amp;hl=th&amp;biw=802&amp;bih=346&amp;tbm=isch&amp;prmd=ivns&amp;tbnid=mmQ9ijmSiPwXgM:&amp;imgrefurl=http://www.oknation.net/blog/guide007/2008/01/19/entry-1&amp;imgurl=http://www.schuai.net/gotoknow/tree.jpg&amp;w=312&amp;h=474&amp;ei=EsHUTc_eB8SmrAfIz8zvCw&amp;zoom=1&amp;iact=rc&amp;dur=390&amp;sqi=2&amp;page=9&amp;tbnh=91&amp;tbnw=60&amp;ndsp=9&amp;ved=1t:429,r:5,s:63&amp;tx=35&amp;ty=16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0" t="0" r="0" b="62606"/>
          <a:stretch/>
        </p:blipFill>
        <p:spPr>
          <a:xfrm>
            <a:off x="0" y="1484280"/>
            <a:ext cx="9124920" cy="5373720"/>
          </a:xfrm>
          <a:prstGeom prst="rect">
            <a:avLst/>
          </a:prstGeom>
          <a:ln w="0">
            <a:noFill/>
          </a:ln>
        </p:spPr>
      </p:pic>
      <p:sp>
        <p:nvSpPr>
          <p:cNvPr id="42" name="Oval Callout 5"/>
          <p:cNvSpPr/>
          <p:nvPr/>
        </p:nvSpPr>
        <p:spPr>
          <a:xfrm>
            <a:off x="642960" y="128520"/>
            <a:ext cx="8001000" cy="2800440"/>
          </a:xfrm>
          <a:prstGeom prst="wedgeEllipseCallout">
            <a:avLst>
              <a:gd name="adj1" fmla="val -13796"/>
              <a:gd name="adj2" fmla="val 10508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สถานการณ์กองทุนหลักประกันสุขภาพระดับท้องถิ่น จ</a:t>
            </a:r>
            <a:r>
              <a:rPr b="1" lang="th-TH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ร้อยเอ็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6"/>
          <p:cNvGrpSpPr/>
          <p:nvPr/>
        </p:nvGrpSpPr>
        <p:grpSpPr>
          <a:xfrm>
            <a:off x="6929280" y="357120"/>
            <a:ext cx="1428840" cy="1643040"/>
            <a:chOff x="6929280" y="357120"/>
            <a:chExt cx="1428840" cy="1643040"/>
          </a:xfrm>
        </p:grpSpPr>
        <p:pic>
          <p:nvPicPr>
            <p:cNvPr id="83" name="Picture 6" descr="http://t1.gstatic.com/images?q=tbn:ANd9GcQwMZvmDsZMZCLiZP8XS5Alo-w4T6OX8bUPETs8lJ28nyInmBT1rThjDxk"/>
            <p:cNvPicPr/>
            <p:nvPr/>
          </p:nvPicPr>
          <p:blipFill>
            <a:blip r:embed="rId1"/>
            <a:stretch/>
          </p:blipFill>
          <p:spPr>
            <a:xfrm>
              <a:off x="7210080" y="357120"/>
              <a:ext cx="829800" cy="163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8" descr="http://image.ohozaa.com/ir/2r5l1.jpg"/>
            <p:cNvPicPr/>
            <p:nvPr/>
          </p:nvPicPr>
          <p:blipFill>
            <a:blip r:embed="rId2"/>
            <a:srcRect l="8132" t="68894" r="51681" b="25625"/>
            <a:stretch/>
          </p:blipFill>
          <p:spPr>
            <a:xfrm>
              <a:off x="6929280" y="1819080"/>
              <a:ext cx="1428840" cy="1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Rectangle 5"/>
          <p:cNvSpPr/>
          <p:nvPr/>
        </p:nvSpPr>
        <p:spPr>
          <a:xfrm>
            <a:off x="142920" y="660960"/>
            <a:ext cx="8358120" cy="43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cc"/>
                </a:solidFill>
                <a:latin typeface="TH SarabunIT๙"/>
                <a:ea typeface="Cordia New"/>
              </a:rPr>
              <a:t>1. </a:t>
            </a:r>
            <a:r>
              <a:rPr b="1" lang="th-TH" sz="2800" spc="-1" strike="noStrike">
                <a:solidFill>
                  <a:srgbClr val="0000cc"/>
                </a:solidFill>
                <a:latin typeface="TH SarabunIT๙"/>
                <a:cs typeface="Cordia New"/>
              </a:rPr>
              <a:t>การสร้างความเข้าใจร่วมกันในการประเมิน</a:t>
            </a:r>
            <a:r>
              <a:rPr b="1" lang="th-TH" sz="2800" spc="-1" strike="noStrike">
                <a:solidFill>
                  <a:srgbClr val="0000cc"/>
                </a:solidFill>
                <a:latin typeface="TH SarabunIT๙"/>
                <a:ea typeface="Cordia New"/>
              </a:rPr>
              <a:t>/</a:t>
            </a:r>
            <a:r>
              <a:rPr b="1" lang="th-TH" sz="2800" spc="-1" strike="noStrike">
                <a:solidFill>
                  <a:srgbClr val="0000cc"/>
                </a:solidFill>
                <a:latin typeface="TH SarabunIT๙"/>
                <a:cs typeface="Cordia New"/>
              </a:rPr>
              <a:t>แบบประเมิน เพิ่มเติ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cc"/>
                </a:solidFill>
                <a:latin typeface="TH SarabunIT๙"/>
                <a:ea typeface="Cordia New"/>
              </a:rPr>
              <a:t>2. </a:t>
            </a:r>
            <a:r>
              <a:rPr b="1" lang="th-TH" sz="2800" spc="-1" strike="noStrike">
                <a:solidFill>
                  <a:srgbClr val="0000cc"/>
                </a:solidFill>
                <a:latin typeface="TH SarabunIT๙"/>
                <a:cs typeface="Cordia New"/>
              </a:rPr>
              <a:t>พัฒนาการจัดทำแผนปฏิบัติงานกองทุนที่มีคุณภา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cc"/>
                </a:solidFill>
                <a:latin typeface="TH SarabunIT๙"/>
                <a:ea typeface="Cordia New"/>
              </a:rPr>
              <a:t>3.</a:t>
            </a:r>
            <a:r>
              <a:rPr b="1" lang="th-TH" sz="2800" spc="-1" strike="noStrike">
                <a:solidFill>
                  <a:srgbClr val="0000cc"/>
                </a:solidFill>
                <a:latin typeface="TH SarabunIT๙"/>
                <a:cs typeface="Cordia New"/>
              </a:rPr>
              <a:t>พัฒนารูปแบบการประเมินผลรายโครงการ เพื่อนำผลไปใช้ได้จริ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cc"/>
                </a:solidFill>
                <a:latin typeface="TH SarabunIT๙"/>
                <a:ea typeface="Cordia New"/>
              </a:rPr>
              <a:t>3. </a:t>
            </a:r>
            <a:r>
              <a:rPr b="1" lang="th-TH" sz="2800" spc="-1" strike="noStrike">
                <a:solidFill>
                  <a:srgbClr val="0000cc"/>
                </a:solidFill>
                <a:latin typeface="TH SarabunIT๙"/>
                <a:cs typeface="Cordia New"/>
              </a:rPr>
              <a:t>การมีและพัฒนาทีมประเมินกลางระดับเขต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cc"/>
                </a:solidFill>
                <a:latin typeface="TH SarabunIT๙"/>
                <a:ea typeface="Cordia New"/>
              </a:rPr>
              <a:t>4. </a:t>
            </a:r>
            <a:r>
              <a:rPr b="1" lang="th-TH" sz="2800" spc="-1" strike="noStrike">
                <a:solidFill>
                  <a:srgbClr val="0000cc"/>
                </a:solidFill>
                <a:latin typeface="TH SarabunIT๙"/>
                <a:cs typeface="Cordia New"/>
              </a:rPr>
              <a:t>นำผลการดำเนินงานกองทุน  เป็นส่วนหนึ่งของการประเมิน อปท</a:t>
            </a:r>
            <a:r>
              <a:rPr b="1" lang="th-TH" sz="2800" spc="-1" strike="noStrike">
                <a:solidFill>
                  <a:srgbClr val="0000cc"/>
                </a:solidFill>
                <a:latin typeface="TH SarabunIT๙"/>
                <a:ea typeface="Cordia Ne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Callout 5"/>
          <p:cNvSpPr/>
          <p:nvPr/>
        </p:nvSpPr>
        <p:spPr>
          <a:xfrm>
            <a:off x="1643040" y="500040"/>
            <a:ext cx="4714920" cy="1000080"/>
          </a:xfrm>
          <a:prstGeom prst="wedgeEllipseCallout">
            <a:avLst>
              <a:gd name="adj1" fmla="val -13796"/>
              <a:gd name="adj2" fmla="val 10508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ข้อเสนอแน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สี่เหลี่ยมผืนผ้า 4"/>
          <p:cNvSpPr/>
          <p:nvPr/>
        </p:nvSpPr>
        <p:spPr>
          <a:xfrm>
            <a:off x="142920" y="47862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cc"/>
                </a:solidFill>
                <a:latin typeface="TH SarabunIT๙"/>
                <a:ea typeface="Cordia New"/>
              </a:rPr>
              <a:t> </a:t>
            </a:r>
            <a:r>
              <a:rPr b="1" lang="th-TH" sz="2800" spc="-1" strike="noStrike">
                <a:solidFill>
                  <a:srgbClr val="0000cc"/>
                </a:solidFill>
                <a:latin typeface="TH SarabunIT๙"/>
                <a:ea typeface="Cordia New"/>
              </a:rPr>
              <a:t>6.</a:t>
            </a:r>
            <a:r>
              <a:rPr b="1" lang="th-TH" sz="2800" spc="-1" strike="noStrike">
                <a:solidFill>
                  <a:srgbClr val="0000cc"/>
                </a:solidFill>
                <a:latin typeface="TH SarabunIT๙"/>
                <a:cs typeface="Cordia New"/>
              </a:rPr>
              <a:t>นำเสนอผู้บริหารทุกระดับ ในส่วนที่เกี่ยวข้อง เช่นการประชุม อำเภอ </a:t>
            </a:r>
            <a:r>
              <a:rPr b="1" lang="th-TH" sz="2800" spc="-1" strike="noStrike">
                <a:solidFill>
                  <a:srgbClr val="0000cc"/>
                </a:solidFill>
                <a:latin typeface="TH SarabunIT๙"/>
                <a:ea typeface="Cordia New"/>
              </a:rPr>
              <a:t>/</a:t>
            </a:r>
            <a:r>
              <a:rPr b="1" lang="th-TH" sz="2800" spc="-1" strike="noStrike">
                <a:solidFill>
                  <a:srgbClr val="0000cc"/>
                </a:solidFill>
                <a:latin typeface="TH SarabunIT๙"/>
                <a:cs typeface="Cordia New"/>
              </a:rPr>
              <a:t>ศาลากลางจังหวัด  </a:t>
            </a:r>
            <a:r>
              <a:rPr b="1" lang="en-US" sz="2800" spc="-1" strike="noStrike">
                <a:solidFill>
                  <a:srgbClr val="0000cc"/>
                </a:solidFill>
                <a:latin typeface="TH SarabunIT๙"/>
              </a:rPr>
              <a:t>CUP/</a:t>
            </a:r>
            <a:r>
              <a:rPr b="1" lang="th-TH" sz="2800" spc="-1" strike="noStrike">
                <a:solidFill>
                  <a:srgbClr val="0000cc"/>
                </a:solidFill>
                <a:latin typeface="TH SarabunIT๙"/>
                <a:cs typeface="Cordia New"/>
              </a:rPr>
              <a:t>สสอ</a:t>
            </a:r>
            <a:r>
              <a:rPr b="1" lang="th-TH" sz="2800" spc="-1" strike="noStrike">
                <a:solidFill>
                  <a:srgbClr val="0000cc"/>
                </a:solidFill>
                <a:latin typeface="TH SarabunIT๙"/>
                <a:ea typeface="Cordia Ne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สี่เหลี่ยมผืนผ้า 7"/>
          <p:cNvSpPr/>
          <p:nvPr/>
        </p:nvSpPr>
        <p:spPr>
          <a:xfrm>
            <a:off x="0" y="435780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cc"/>
                </a:solidFill>
                <a:latin typeface="TH SarabunIT๙"/>
                <a:ea typeface="Times New Roman"/>
              </a:rPr>
              <a:t>  </a:t>
            </a:r>
            <a:r>
              <a:rPr b="1" lang="th-TH" sz="2800" spc="-1" strike="noStrike">
                <a:solidFill>
                  <a:srgbClr val="0000cc"/>
                </a:solidFill>
                <a:latin typeface="TH SarabunIT๙"/>
                <a:ea typeface="Cordia New"/>
              </a:rPr>
              <a:t>5. </a:t>
            </a:r>
            <a:r>
              <a:rPr b="1" lang="th-TH" sz="2800" spc="-1" strike="noStrike">
                <a:solidFill>
                  <a:srgbClr val="0000cc"/>
                </a:solidFill>
                <a:latin typeface="TH SarabunIT๙"/>
                <a:cs typeface="Cordia New"/>
              </a:rPr>
              <a:t>ทีมพัฒนากองทุนระดับจังหวัด อำเภอ ได้รับการพัฒนาต่อเนื่อ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0" t="0" r="0" b="62606"/>
          <a:stretch/>
        </p:blipFill>
        <p:spPr>
          <a:xfrm>
            <a:off x="4757760" y="4286160"/>
            <a:ext cx="4367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Oval Callout 5"/>
          <p:cNvSpPr/>
          <p:nvPr/>
        </p:nvSpPr>
        <p:spPr>
          <a:xfrm>
            <a:off x="1928880" y="857160"/>
            <a:ext cx="6643800" cy="1943280"/>
          </a:xfrm>
          <a:prstGeom prst="wedgeEllipseCallout">
            <a:avLst>
              <a:gd name="adj1" fmla="val -13796"/>
              <a:gd name="adj2" fmla="val 10508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ขอบพระคุ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ทุกท่าน ที่รับฟังข้อมู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6"/>
          <p:cNvGrpSpPr/>
          <p:nvPr/>
        </p:nvGrpSpPr>
        <p:grpSpPr>
          <a:xfrm>
            <a:off x="7572240" y="142920"/>
            <a:ext cx="1143000" cy="1214280"/>
            <a:chOff x="7572240" y="142920"/>
            <a:chExt cx="1143000" cy="1214280"/>
          </a:xfrm>
        </p:grpSpPr>
        <p:pic>
          <p:nvPicPr>
            <p:cNvPr id="44" name="Picture 6" descr="http://t1.gstatic.com/images?q=tbn:ANd9GcQwMZvmDsZMZCLiZP8XS5Alo-w4T6OX8bUPETs8lJ28nyInmBT1rThjDxk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796880" y="142920"/>
              <a:ext cx="663840" cy="12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8" descr="http://image.ohozaa.com/ir/2r5l1.jpg"/>
            <p:cNvPicPr/>
            <p:nvPr/>
          </p:nvPicPr>
          <p:blipFill>
            <a:blip r:embed="rId3"/>
            <a:srcRect l="8132" t="68894" r="51681" b="25625"/>
            <a:stretch/>
          </p:blipFill>
          <p:spPr>
            <a:xfrm>
              <a:off x="7572240" y="1223280"/>
              <a:ext cx="1143000" cy="13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TextBox 5"/>
          <p:cNvSpPr/>
          <p:nvPr/>
        </p:nvSpPr>
        <p:spPr>
          <a:xfrm>
            <a:off x="214200" y="142920"/>
            <a:ext cx="75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0000"/>
                </a:solidFill>
                <a:latin typeface="Arial"/>
              </a:rPr>
              <a:t>ผลการประเมินกองทุน จังหวัดร้อยเอ็ด ปี </a:t>
            </a:r>
            <a:r>
              <a:rPr b="1" lang="th-TH" sz="3600" spc="-1" strike="noStrike">
                <a:solidFill>
                  <a:srgbClr val="ff0000"/>
                </a:solidFill>
                <a:latin typeface="Arial"/>
              </a:rPr>
              <a:t>2559 (</a:t>
            </a:r>
            <a:r>
              <a:rPr b="1" lang="th-TH" sz="2800" spc="-1" strike="noStrike">
                <a:solidFill>
                  <a:srgbClr val="404040"/>
                </a:solidFill>
                <a:latin typeface="Arial"/>
              </a:rPr>
              <a:t>ทีมอำเภอ</a:t>
            </a:r>
            <a:r>
              <a:rPr b="1" lang="th-TH" sz="28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404040"/>
                </a:solidFill>
                <a:latin typeface="Arial"/>
              </a:rPr>
              <a:t>(</a:t>
            </a:r>
            <a:r>
              <a:rPr b="1" lang="th-TH" sz="2400" spc="-1" strike="noStrike">
                <a:solidFill>
                  <a:srgbClr val="404040"/>
                </a:solidFill>
                <a:latin typeface="Arial"/>
              </a:rPr>
              <a:t>เมือง</a:t>
            </a:r>
            <a:r>
              <a:rPr b="1" lang="th-TH" sz="2400" spc="-1" strike="noStrike">
                <a:solidFill>
                  <a:srgbClr val="404040"/>
                </a:solidFill>
                <a:latin typeface="Arial"/>
              </a:rPr>
              <a:t>/</a:t>
            </a:r>
            <a:r>
              <a:rPr b="1" lang="th-TH" sz="2400" spc="-1" strike="noStrike">
                <a:solidFill>
                  <a:srgbClr val="404040"/>
                </a:solidFill>
                <a:latin typeface="Arial"/>
              </a:rPr>
              <a:t>เชียงขวัญ</a:t>
            </a:r>
            <a:r>
              <a:rPr b="1" lang="th-TH" sz="24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4"/>
          <a:srcRect l="20034" t="34836" r="3614" b="10357"/>
          <a:stretch/>
        </p:blipFill>
        <p:spPr>
          <a:xfrm>
            <a:off x="857160" y="1214280"/>
            <a:ext cx="759312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6"/>
          <p:cNvGrpSpPr/>
          <p:nvPr/>
        </p:nvGrpSpPr>
        <p:grpSpPr>
          <a:xfrm>
            <a:off x="7572240" y="142920"/>
            <a:ext cx="1143000" cy="1214280"/>
            <a:chOff x="7572240" y="142920"/>
            <a:chExt cx="1143000" cy="1214280"/>
          </a:xfrm>
        </p:grpSpPr>
        <p:pic>
          <p:nvPicPr>
            <p:cNvPr id="49" name="Picture 6" descr="http://t1.gstatic.com/images?q=tbn:ANd9GcQwMZvmDsZMZCLiZP8XS5Alo-w4T6OX8bUPETs8lJ28nyInmBT1rThjDxk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796880" y="142920"/>
              <a:ext cx="663840" cy="12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8" descr="http://image.ohozaa.com/ir/2r5l1.jpg"/>
            <p:cNvPicPr/>
            <p:nvPr/>
          </p:nvPicPr>
          <p:blipFill>
            <a:blip r:embed="rId3"/>
            <a:srcRect l="8132" t="68894" r="51681" b="25625"/>
            <a:stretch/>
          </p:blipFill>
          <p:spPr>
            <a:xfrm>
              <a:off x="7572240" y="1223280"/>
              <a:ext cx="1143000" cy="13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Box 5"/>
          <p:cNvSpPr/>
          <p:nvPr/>
        </p:nvSpPr>
        <p:spPr>
          <a:xfrm>
            <a:off x="214200" y="14292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0000"/>
                </a:solidFill>
                <a:latin typeface="Arial"/>
              </a:rPr>
              <a:t>ผลการประเมินกองทุน จังหวัดร้อยเอ็ด </a:t>
            </a:r>
            <a:r>
              <a:rPr b="1" lang="th-TH" sz="3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th-TH" sz="2800" spc="-1" strike="noStrike">
                <a:solidFill>
                  <a:srgbClr val="404040"/>
                </a:solidFill>
                <a:latin typeface="Arial"/>
              </a:rPr>
              <a:t>ประเมินตนเอง</a:t>
            </a:r>
            <a:r>
              <a:rPr b="1" lang="th-TH" sz="28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4"/>
          <a:srcRect l="20096" t="38608" r="3759" b="6972"/>
          <a:stretch/>
        </p:blipFill>
        <p:spPr>
          <a:xfrm>
            <a:off x="2786040" y="3857760"/>
            <a:ext cx="5715000" cy="278748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285840" y="1571760"/>
            <a:ext cx="10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0000"/>
                </a:solidFill>
                <a:latin typeface="Arial"/>
              </a:rPr>
              <a:t>ปี </a:t>
            </a:r>
            <a:r>
              <a:rPr b="1" lang="th-TH" sz="2400" spc="-1" strike="noStrike">
                <a:solidFill>
                  <a:srgbClr val="ff0000"/>
                </a:solidFill>
                <a:latin typeface="Arial"/>
              </a:rPr>
              <a:t>25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0" y="5000760"/>
            <a:ext cx="28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0000"/>
                </a:solidFill>
                <a:latin typeface="Arial"/>
              </a:rPr>
              <a:t>ปี </a:t>
            </a:r>
            <a:r>
              <a:rPr b="1" lang="th-TH" sz="2400" spc="-1" strike="noStrike">
                <a:solidFill>
                  <a:srgbClr val="ff0000"/>
                </a:solidFill>
                <a:latin typeface="Arial"/>
              </a:rPr>
              <a:t>2560 </a:t>
            </a:r>
            <a:r>
              <a:rPr b="1" lang="th-TH" sz="2400" spc="-1" strike="noStrike">
                <a:solidFill>
                  <a:srgbClr val="ff0000"/>
                </a:solidFill>
                <a:latin typeface="Arial"/>
              </a:rPr>
              <a:t>ประเมิน </a:t>
            </a:r>
            <a:r>
              <a:rPr b="1" lang="th-TH" sz="24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1" lang="th-TH" sz="2400" spc="-1" strike="noStrike">
                <a:solidFill>
                  <a:srgbClr val="ff0000"/>
                </a:solidFill>
                <a:latin typeface="Arial"/>
              </a:rPr>
              <a:t>ครั้ง  มีค</a:t>
            </a:r>
            <a:r>
              <a:rPr b="1" lang="th-TH" sz="2400" spc="-1" strike="noStrike">
                <a:solidFill>
                  <a:srgbClr val="ff0000"/>
                </a:solidFill>
                <a:latin typeface="Arial"/>
              </a:rPr>
              <a:t>./</a:t>
            </a:r>
            <a:r>
              <a:rPr b="1" lang="th-TH" sz="2400" spc="-1" strike="noStrike">
                <a:solidFill>
                  <a:srgbClr val="ff0000"/>
                </a:solidFill>
                <a:latin typeface="Arial"/>
              </a:rPr>
              <a:t>กย</a:t>
            </a:r>
            <a:r>
              <a:rPr b="1" lang="th-TH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เขตแจ้ง มีค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./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มิย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5"/>
          <a:srcRect l="20300" t="17883" r="3461" b="28446"/>
          <a:stretch/>
        </p:blipFill>
        <p:spPr>
          <a:xfrm>
            <a:off x="1357200" y="714240"/>
            <a:ext cx="59295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6"/>
          <p:cNvGrpSpPr/>
          <p:nvPr/>
        </p:nvGrpSpPr>
        <p:grpSpPr>
          <a:xfrm>
            <a:off x="7572240" y="142920"/>
            <a:ext cx="1143000" cy="1214280"/>
            <a:chOff x="7572240" y="142920"/>
            <a:chExt cx="1143000" cy="1214280"/>
          </a:xfrm>
        </p:grpSpPr>
        <p:pic>
          <p:nvPicPr>
            <p:cNvPr id="57" name="Picture 6" descr="http://t1.gstatic.com/images?q=tbn:ANd9GcQwMZvmDsZMZCLiZP8XS5Alo-w4T6OX8bUPETs8lJ28nyInmBT1rThjDxk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796880" y="142920"/>
              <a:ext cx="663840" cy="12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8" descr="http://image.ohozaa.com/ir/2r5l1.jpg"/>
            <p:cNvPicPr/>
            <p:nvPr/>
          </p:nvPicPr>
          <p:blipFill>
            <a:blip r:embed="rId3"/>
            <a:srcRect l="8132" t="68894" r="51681" b="25625"/>
            <a:stretch/>
          </p:blipFill>
          <p:spPr>
            <a:xfrm>
              <a:off x="7572240" y="1223280"/>
              <a:ext cx="1143000" cy="13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TextBox 5"/>
          <p:cNvSpPr/>
          <p:nvPr/>
        </p:nvSpPr>
        <p:spPr>
          <a:xfrm>
            <a:off x="-1335960" y="142920"/>
            <a:ext cx="89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0000"/>
                </a:solidFill>
                <a:latin typeface="Arial"/>
              </a:rPr>
              <a:t>เงินคงเหลือในกองทุน จังหวัดร้อยเอ็ด ปี </a:t>
            </a:r>
            <a:r>
              <a:rPr b="1" lang="th-TH" sz="3600" spc="-1" strike="noStrike">
                <a:solidFill>
                  <a:srgbClr val="ff0000"/>
                </a:solidFill>
                <a:latin typeface="Arial"/>
              </a:rPr>
              <a:t>255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4"/>
          <a:srcRect l="20176" t="33145" r="3313" b="10176"/>
          <a:stretch/>
        </p:blipFill>
        <p:spPr>
          <a:xfrm>
            <a:off x="142920" y="1000080"/>
            <a:ext cx="85723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6"/>
          <p:cNvGrpSpPr/>
          <p:nvPr/>
        </p:nvGrpSpPr>
        <p:grpSpPr>
          <a:xfrm>
            <a:off x="7572240" y="142920"/>
            <a:ext cx="1143000" cy="1214280"/>
            <a:chOff x="7572240" y="142920"/>
            <a:chExt cx="1143000" cy="1214280"/>
          </a:xfrm>
        </p:grpSpPr>
        <p:pic>
          <p:nvPicPr>
            <p:cNvPr id="62" name="Picture 6" descr="http://t1.gstatic.com/images?q=tbn:ANd9GcQwMZvmDsZMZCLiZP8XS5Alo-w4T6OX8bUPETs8lJ28nyInmBT1rThjDxk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796880" y="142920"/>
              <a:ext cx="663840" cy="12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8" descr="http://image.ohozaa.com/ir/2r5l1.jpg"/>
            <p:cNvPicPr/>
            <p:nvPr/>
          </p:nvPicPr>
          <p:blipFill>
            <a:blip r:embed="rId3"/>
            <a:srcRect l="8132" t="68894" r="51681" b="25625"/>
            <a:stretch/>
          </p:blipFill>
          <p:spPr>
            <a:xfrm>
              <a:off x="7572240" y="1223280"/>
              <a:ext cx="1143000" cy="13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Box 5"/>
          <p:cNvSpPr/>
          <p:nvPr/>
        </p:nvSpPr>
        <p:spPr>
          <a:xfrm>
            <a:off x="-1311840" y="142920"/>
            <a:ext cx="87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 u="sng">
                <a:solidFill>
                  <a:srgbClr val="ff0000"/>
                </a:solidFill>
                <a:uFillTx/>
                <a:latin typeface="Arial"/>
              </a:rPr>
              <a:t>เงินคงเหลือในกองทุน จังหวัดร้อยเอ็ด ปี </a:t>
            </a:r>
            <a:r>
              <a:rPr b="1" lang="th-TH" sz="3600" spc="-1" strike="noStrike" u="sng">
                <a:solidFill>
                  <a:srgbClr val="ff0000"/>
                </a:solidFill>
                <a:uFillTx/>
                <a:latin typeface="Arial"/>
              </a:rPr>
              <a:t>25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00040" y="857160"/>
          <a:ext cx="5372280" cy="5469120"/>
        </p:xfrm>
        <a:graphic>
          <a:graphicData uri="http://schemas.openxmlformats.org/drawingml/2006/table">
            <a:tbl>
              <a:tblPr/>
              <a:tblGrid>
                <a:gridCol w="266760"/>
                <a:gridCol w="774720"/>
                <a:gridCol w="2387520"/>
                <a:gridCol w="642960"/>
                <a:gridCol w="576360"/>
                <a:gridCol w="723960"/>
              </a:tblGrid>
              <a:tr h="739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ที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อำเภ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กองทุ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เงินทั้งปี 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5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รายจ่าย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คงเหลือ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ธวัชบุร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อบต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ราชธาน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  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265,55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        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-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0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เมืองร้อยเอ็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เทศบาลตำบลโนนตา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  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98,26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        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-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0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เมืองสรว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อบต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คูเมือ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  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333,18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        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-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0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สุวรรณภูม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เทศบาลตำบลทุ่งกุล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  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542,85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  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86,2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84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สุวรรณภูม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อบต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นาใหญ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  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689,78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44,64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81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พนมไพ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อบต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พนมไพ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  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399,95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  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99,69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75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เกษตรวิสั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อบต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กำแพ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,610,56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508,5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68.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จังห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อบต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นชาต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  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251,69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  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82,9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67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พนมไพ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อบต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โคกสว่า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  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359,44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19,1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66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เสลภูม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อบต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นาเลิ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  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404,00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41,16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65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สี่เหลี่ยมผืนผ้า 4"/>
          <p:cNvSpPr/>
          <p:nvPr/>
        </p:nvSpPr>
        <p:spPr>
          <a:xfrm>
            <a:off x="1285920" y="714240"/>
            <a:ext cx="7500960" cy="75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0000"/>
                </a:solidFill>
                <a:latin typeface="Arial"/>
              </a:rPr>
              <a:t>ข้อสังเกตจากการประเมินกองทุนฯ ของ</a:t>
            </a:r>
            <a:r>
              <a:rPr b="1" lang="th-TH" sz="3200" spc="-1" strike="noStrike">
                <a:solidFill>
                  <a:srgbClr val="ff0000"/>
                </a:solidFill>
                <a:latin typeface="Arial"/>
              </a:rPr>
              <a:t>ทีมจังหวัดอำเภ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โดยการลงประเมินในพื้นที่กองทุ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558ed5"/>
                </a:solidFill>
                <a:latin typeface="Arial"/>
              </a:rPr>
              <a:t>ทราบปัญหา  อุปสรรค สถานการณ์จริงของการดำเนินงานกองทุ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558ed5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558ed5"/>
                </a:solidFill>
                <a:latin typeface="Arial"/>
              </a:rPr>
              <a:t>ช่วยเสนอแนะ  หาทางแก้ไขปัญหาได้ตรงประเด็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558ed5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558ed5"/>
                </a:solidFill>
                <a:latin typeface="Arial"/>
              </a:rPr>
              <a:t>ได้ข้อมูลการดำเนินงานด้านสุขภาพของพื้น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558ed5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558ed5"/>
                </a:solidFill>
                <a:latin typeface="Arial"/>
              </a:rPr>
              <a:t>เ ป็นกลไกประสานผลักดันงานที่เป็นปัญหาสุขภาพ หรือนโยบายสุขภา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558ed5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558ed5"/>
                </a:solidFill>
                <a:latin typeface="Arial"/>
              </a:rPr>
              <a:t>ทีมประเมินจากท้องถิ่นอำเภอ ทำให้กลไกการประเมินกองทุนมีความเข้มแข็งมาก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558ed5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มีกองทุนที่ยังไม่ดำเนินการตามระเบียบประกาศฉบับ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แผนงานกองทุน บางแห่งยังขาดรายละเอียดที่สำคัญ เช่นกิจกรรม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งบประมาณ  ผลลัพธ์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การประเมิน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เพราะส่วนใหญ่กรรมการอนุมัติแผนไม่ได้ดูโครงการ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0" descr="Snail-01-jun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143680" y="5500800"/>
            <a:ext cx="343188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สี่เหลี่ยมผืนผ้า 4"/>
          <p:cNvSpPr/>
          <p:nvPr/>
        </p:nvSpPr>
        <p:spPr>
          <a:xfrm>
            <a:off x="1285920" y="714240"/>
            <a:ext cx="750096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0000"/>
                </a:solidFill>
                <a:latin typeface="Arial"/>
              </a:rPr>
              <a:t>ข้อสังเกตจากการประเมินกองทุนฯ ของ</a:t>
            </a:r>
            <a:r>
              <a:rPr b="1" lang="th-TH" sz="3200" spc="-1" strike="noStrike">
                <a:solidFill>
                  <a:srgbClr val="ff0000"/>
                </a:solidFill>
                <a:latin typeface="Arial"/>
              </a:rPr>
              <a:t>ทีมจังหวัดอำเภ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โดยการลงประเมินในพื้นที่กองทุ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ยังขาดการติดตามประเมินผลรายโครงการ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ผลงาน ผลเงิน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การประเมินข้อ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9-1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การบริหารกองทุนยังล่าช้า  การเบิกจ่ายเงินตามโครงการเริ่มในไตรมาสที่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มีเงินค้างในกองทุ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ไม่นำผลการประเมินตนเองของกองทุน  มาแก้ไขปรับปรุง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0" descr="Snail-01-jun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143680" y="5500800"/>
            <a:ext cx="343188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0" t="0" r="0" b="62606"/>
          <a:stretch/>
        </p:blipFill>
        <p:spPr>
          <a:xfrm>
            <a:off x="6734160" y="0"/>
            <a:ext cx="240984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Oval Callout 5"/>
          <p:cNvSpPr/>
          <p:nvPr/>
        </p:nvSpPr>
        <p:spPr>
          <a:xfrm>
            <a:off x="2071800" y="0"/>
            <a:ext cx="4286160" cy="1000080"/>
          </a:xfrm>
          <a:prstGeom prst="wedgeEllipseCallout">
            <a:avLst>
              <a:gd name="adj1" fmla="val -13796"/>
              <a:gd name="adj2" fmla="val 10508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นวทางการดำเนินงานปี </a:t>
            </a:r>
            <a:r>
              <a:rPr b="1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-388080" y="31680"/>
            <a:ext cx="14811120" cy="63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H SarabunIT๙"/>
                <a:cs typeface="Calibri"/>
              </a:rPr>
              <a:t>งบสนับสนุนอำเภอ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144,720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บาท  งบสนับสนุนจังหวัด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27,800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บา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H SarabunIT๙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ค่าเบี้ยเลี้ยงทีมประเมินกองทุนฯ ระดับอำเภอ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ค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240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บาท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100.5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วัน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ประเมิน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กองทุนต่อวั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H SarabunIT๙"/>
                <a:cs typeface="Calibri"/>
              </a:rPr>
              <a:t>วิธีการดำเนินกา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H SarabunIT๙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H SarabunIT๙"/>
                <a:ea typeface="Calibri"/>
              </a:rPr>
              <a:t>  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cs typeface="Calibri"/>
              </a:rPr>
              <a:t>สำนักงานสาธารณสุขอำเภอส่งแผนการติดตามประเมินผล รายอำเภอ 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ea typeface="Calibri"/>
              </a:rPr>
              <a:t>( 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cs typeface="Calibri"/>
              </a:rPr>
              <a:t>เมษายน 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ea typeface="Calibri"/>
              </a:rPr>
              <a:t>2560 )</a:t>
            </a:r>
            <a:r>
              <a:rPr b="1" lang="en-US" sz="2400" spc="-1" strike="noStrike">
                <a:solidFill>
                  <a:srgbClr val="376092"/>
                </a:solidFill>
                <a:latin typeface="TH SarabunIT๙"/>
                <a:ea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TH SarabunIT๙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76092"/>
                </a:solidFill>
                <a:latin typeface="TH SarabunIT๙"/>
                <a:ea typeface="Calibri"/>
              </a:rPr>
              <a:t> 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cs typeface="Calibri"/>
              </a:rPr>
              <a:t>ติดตามสนับสนุนการดำเนินงานโดยทีมระดับจังหวัด 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ea typeface="Calibri"/>
              </a:rPr>
              <a:t>( 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cs typeface="Calibri"/>
              </a:rPr>
              <a:t>พฤษภาคม 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ea typeface="Calibri"/>
              </a:rPr>
              <a:t>256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TH SarabunIT๙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76092"/>
                </a:solidFill>
                <a:latin typeface="TH SarabunIT๙"/>
                <a:ea typeface="Calibri"/>
              </a:rPr>
              <a:t> 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cs typeface="Calibri"/>
              </a:rPr>
              <a:t>สำนักงานสาธารณสุขอำเภอประเมินผลการบริหารกองทุนฯ โดยการลงพื้นที่ประเมิน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ea typeface="Calibri"/>
              </a:rPr>
              <a:t>/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cs typeface="Calibri"/>
              </a:rPr>
              <a:t>และรายงาน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76092"/>
                </a:solidFill>
                <a:latin typeface="TH SarabunIT๙"/>
                <a:ea typeface="Calibri"/>
              </a:rPr>
              <a:t>   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cs typeface="Calibri"/>
              </a:rPr>
              <a:t>การประเมินผ่านโปรแกรม ในทุกกองทุนฯ  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ea typeface="Calibri"/>
              </a:rPr>
              <a:t>( 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cs typeface="Calibri"/>
              </a:rPr>
              <a:t>กรกฎาคม 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ea typeface="Calibri"/>
              </a:rPr>
              <a:t>2560 )</a:t>
            </a:r>
            <a:r>
              <a:rPr b="1" lang="en-US" sz="2400" spc="-1" strike="noStrike">
                <a:solidFill>
                  <a:srgbClr val="376092"/>
                </a:solidFill>
                <a:latin typeface="TH SarabunIT๙"/>
                <a:ea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TH SarabunIT๙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76092"/>
                </a:solidFill>
                <a:latin typeface="TH SarabunIT๙"/>
                <a:ea typeface="Calibri"/>
              </a:rPr>
              <a:t> 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cs typeface="Calibri"/>
              </a:rPr>
              <a:t>สำนักงานสาธารณสุขอำเภอส่งรายงานผลการประเมิน และจัดทำฏีกาเบิกค่าใช้จ่ายในการไปราช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76092"/>
                </a:solidFill>
                <a:latin typeface="TH SarabunIT๙"/>
                <a:ea typeface="Calibri"/>
              </a:rPr>
              <a:t>   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cs typeface="Calibri"/>
              </a:rPr>
              <a:t>ส่งเบิกที่สำนักงานสาธารณสุขจังหวัด 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ea typeface="Calibri"/>
              </a:rPr>
              <a:t>( 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cs typeface="Calibri"/>
              </a:rPr>
              <a:t>สิงหาคม 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ea typeface="Calibri"/>
              </a:rPr>
              <a:t>2560 )</a:t>
            </a:r>
            <a:r>
              <a:rPr b="1" lang="en-US" sz="2400" spc="-1" strike="noStrike">
                <a:solidFill>
                  <a:srgbClr val="376092"/>
                </a:solidFill>
                <a:latin typeface="TH SarabunIT๙"/>
                <a:ea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TH SarabunIT๙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76092"/>
                </a:solidFill>
                <a:latin typeface="TH SarabunIT๙"/>
                <a:ea typeface="Calibri"/>
              </a:rPr>
              <a:t> 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cs typeface="Calibri"/>
              </a:rPr>
              <a:t>รายงานผลการดำเนินงานระดับจังหวัด 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ea typeface="Calibri"/>
              </a:rPr>
              <a:t>(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cs typeface="Calibri"/>
              </a:rPr>
              <a:t>ครั้งที่ 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ea typeface="Calibri"/>
              </a:rPr>
              <a:t>1 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cs typeface="Calibri"/>
              </a:rPr>
              <a:t>พฤษภาคม 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ea typeface="Calibri"/>
              </a:rPr>
              <a:t>2560/ 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cs typeface="Calibri"/>
              </a:rPr>
              <a:t>ครั้งที่ 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ea typeface="Calibri"/>
              </a:rPr>
              <a:t>2 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cs typeface="Calibri"/>
              </a:rPr>
              <a:t>กันยายน </a:t>
            </a:r>
            <a:r>
              <a:rPr b="1" lang="th-TH" sz="2400" spc="-1" strike="noStrike">
                <a:solidFill>
                  <a:srgbClr val="376092"/>
                </a:solidFill>
                <a:latin typeface="TH SarabunIT๙"/>
                <a:ea typeface="Calibri"/>
              </a:rPr>
              <a:t>256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0000"/>
                </a:solidFill>
                <a:latin typeface="TH SarabunIT๙"/>
                <a:cs typeface="Calibri"/>
              </a:rPr>
              <a:t>เป้าหมาย   กองทุนหลักประกันสุขภาพระดับท้องถิ่นทุกแห่ง จำนวน </a:t>
            </a:r>
            <a:r>
              <a:rPr b="1" lang="th-TH" sz="2400" spc="-1" strike="noStrike">
                <a:solidFill>
                  <a:srgbClr val="ff0000"/>
                </a:solidFill>
                <a:latin typeface="TH SarabunIT๙"/>
                <a:ea typeface="Calibri"/>
              </a:rPr>
              <a:t>201 </a:t>
            </a:r>
            <a:r>
              <a:rPr b="1" lang="th-TH" sz="2400" spc="-1" strike="noStrike">
                <a:solidFill>
                  <a:srgbClr val="ff0000"/>
                </a:solidFill>
                <a:latin typeface="TH SarabunIT๙"/>
                <a:cs typeface="Calibri"/>
              </a:rPr>
              <a:t>กองทุ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0000"/>
                </a:solidFill>
                <a:latin typeface="TH SarabunIT๙"/>
                <a:ea typeface="Calibri"/>
              </a:rPr>
              <a:t>                  </a:t>
            </a:r>
            <a:r>
              <a:rPr b="1" lang="th-TH" sz="2400" spc="-1" strike="noStrike">
                <a:solidFill>
                  <a:srgbClr val="ff0000"/>
                </a:solidFill>
                <a:latin typeface="TH SarabunIT๙"/>
                <a:cs typeface="Calibri"/>
              </a:rPr>
              <a:t>ทีมประเมินกองทุนฯระดับอำเภอ  </a:t>
            </a:r>
            <a:r>
              <a:rPr b="1" lang="th-TH" sz="2400" spc="-1" strike="noStrike">
                <a:solidFill>
                  <a:srgbClr val="ff0000"/>
                </a:solidFill>
                <a:latin typeface="TH SarabunIT๙"/>
                <a:ea typeface="Calibri"/>
              </a:rPr>
              <a:t>6  </a:t>
            </a:r>
            <a:r>
              <a:rPr b="1" lang="th-TH" sz="2400" spc="-1" strike="noStrike">
                <a:solidFill>
                  <a:srgbClr val="ff0000"/>
                </a:solidFill>
                <a:latin typeface="TH SarabunIT๙"/>
                <a:cs typeface="Calibri"/>
              </a:rPr>
              <a:t>ค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สี่เหลี่ยมผืนผ้า 6"/>
          <p:cNvSpPr/>
          <p:nvPr/>
        </p:nvSpPr>
        <p:spPr>
          <a:xfrm>
            <a:off x="0" y="1571760"/>
            <a:ext cx="70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H SarabunIT๙"/>
                <a:cs typeface="Calibri"/>
              </a:rPr>
              <a:t>กิจกรรม </a:t>
            </a:r>
            <a:r>
              <a:rPr b="1" lang="th-TH" sz="2000" spc="-1" strike="noStrike">
                <a:solidFill>
                  <a:srgbClr val="000000"/>
                </a:solidFill>
                <a:latin typeface="TH SarabunIT๙"/>
                <a:ea typeface="Calibri"/>
              </a:rPr>
              <a:t>2 </a:t>
            </a:r>
            <a:r>
              <a:rPr b="1" lang="th-TH" sz="2000" spc="-1" strike="noStrike">
                <a:solidFill>
                  <a:srgbClr val="000000"/>
                </a:solidFill>
                <a:latin typeface="TH SarabunIT๙"/>
                <a:cs typeface="Calibri"/>
              </a:rPr>
              <a:t>การติดตามประเมินผล และรายงานผลการประเมินของทีมระดับจังหวัด</a:t>
            </a:r>
            <a:r>
              <a:rPr b="1" lang="th-TH" sz="2000" spc="-1" strike="noStrike">
                <a:solidFill>
                  <a:srgbClr val="000000"/>
                </a:solidFill>
                <a:latin typeface="TH SarabunIT๙"/>
                <a:ea typeface="Calibri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TH SarabunIT๙"/>
                <a:cs typeface="Calibri"/>
              </a:rPr>
              <a:t>อำเภ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0" t="0" r="0" b="62606"/>
          <a:stretch/>
        </p:blipFill>
        <p:spPr>
          <a:xfrm>
            <a:off x="6734160" y="0"/>
            <a:ext cx="2409840" cy="1714680"/>
          </a:xfrm>
          <a:prstGeom prst="rect">
            <a:avLst/>
          </a:prstGeom>
          <a:ln w="0">
            <a:noFill/>
          </a:ln>
        </p:spPr>
      </p:pic>
      <p:sp>
        <p:nvSpPr>
          <p:cNvPr id="75" name="Oval Callout 5"/>
          <p:cNvSpPr/>
          <p:nvPr/>
        </p:nvSpPr>
        <p:spPr>
          <a:xfrm>
            <a:off x="2071800" y="0"/>
            <a:ext cx="4286160" cy="1000080"/>
          </a:xfrm>
          <a:prstGeom prst="wedgeEllipseCallout">
            <a:avLst>
              <a:gd name="adj1" fmla="val -13796"/>
              <a:gd name="adj2" fmla="val 10508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นวทางการดำเนินงานปี </a:t>
            </a:r>
            <a:r>
              <a:rPr b="1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15840"/>
            <a:ext cx="650088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งบสนับสนุนจังหวัด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16,6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บา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สี่เหลี่ยมผืนผ้า 6"/>
          <p:cNvSpPr/>
          <p:nvPr/>
        </p:nvSpPr>
        <p:spPr>
          <a:xfrm>
            <a:off x="0" y="157176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พัฒนาศักยภาพสำหรับทีมติดตามระดับจังหวัด 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-2088720" y="16560"/>
            <a:ext cx="1306764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H SarabunIT๙"/>
                <a:ea typeface="Calibri"/>
              </a:rPr>
              <a:t>  </a:t>
            </a:r>
            <a:r>
              <a:rPr b="1" lang="th-TH" sz="2400" spc="-1" strike="noStrike">
                <a:solidFill>
                  <a:srgbClr val="000000"/>
                </a:solidFill>
                <a:latin typeface="TH SarabunIT๙"/>
                <a:cs typeface="Calibri"/>
              </a:rPr>
              <a:t>ถอดบทเรียนการประเมินผลการบริหารจัดการกองทุนหลักประกันสุขภาพ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H SarabunIT๙"/>
                <a:ea typeface="Calibri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TH SarabunIT๙"/>
                <a:cs typeface="Calibri"/>
              </a:rPr>
              <a:t>พื้นที่มีปัญหาในการเบิกจ่ายงบประมาณกองทุนฯ และการดำเนินงาน </a:t>
            </a:r>
            <a:r>
              <a:rPr b="1" lang="en-US" sz="2400" spc="-1" strike="noStrike">
                <a:solidFill>
                  <a:srgbClr val="000000"/>
                </a:solidFill>
                <a:latin typeface="TH SarabunIT๙"/>
                <a:ea typeface="Calibri"/>
              </a:rPr>
              <a:t>LTC </a:t>
            </a:r>
            <a:r>
              <a:rPr b="1" lang="th-TH" sz="2400" spc="-1" strike="noStrike">
                <a:solidFill>
                  <a:srgbClr val="000000"/>
                </a:solidFill>
                <a:latin typeface="TH SarabunIT๙"/>
                <a:cs typeface="Calibri"/>
              </a:rPr>
              <a:t>หลังการประเมินของทีม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สี่เหลี่ยมผืนผ้า 7"/>
          <p:cNvSpPr/>
          <p:nvPr/>
        </p:nvSpPr>
        <p:spPr>
          <a:xfrm>
            <a:off x="-439920" y="3286080"/>
            <a:ext cx="42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งบสนับสนุนจังหวัด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11,8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บา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สี่เหลี่ยมผืนผ้า 8"/>
          <p:cNvSpPr/>
          <p:nvPr/>
        </p:nvSpPr>
        <p:spPr>
          <a:xfrm>
            <a:off x="-1566360" y="3714840"/>
            <a:ext cx="96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0000"/>
                </a:solidFill>
                <a:latin typeface="Arial"/>
              </a:rPr>
              <a:t>รวมงบสนับสนุนจำนวน </a:t>
            </a:r>
            <a:r>
              <a:rPr b="1" lang="th-TH" sz="2400" spc="-1" strike="noStrike">
                <a:solidFill>
                  <a:srgbClr val="ff0000"/>
                </a:solidFill>
                <a:latin typeface="Arial"/>
              </a:rPr>
              <a:t>200,000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th-TH" sz="2400" spc="-1" strike="noStrike">
                <a:solidFill>
                  <a:srgbClr val="ff0000"/>
                </a:solidFill>
                <a:latin typeface="Arial"/>
              </a:rPr>
              <a:t>บาท  อำเภอร้อยละ  </a:t>
            </a:r>
            <a:r>
              <a:rPr b="1" lang="th-TH" sz="2400" spc="-1" strike="noStrike">
                <a:solidFill>
                  <a:srgbClr val="ff0000"/>
                </a:solidFill>
                <a:latin typeface="Arial"/>
              </a:rPr>
              <a:t>72   </a:t>
            </a:r>
            <a:r>
              <a:rPr b="1" lang="th-TH" sz="2400" spc="-1" strike="noStrike">
                <a:solidFill>
                  <a:srgbClr val="ff0000"/>
                </a:solidFill>
                <a:latin typeface="Arial"/>
              </a:rPr>
              <a:t>จังหวัดร้อยละ </a:t>
            </a:r>
            <a:r>
              <a:rPr b="1" lang="th-TH" sz="2400" spc="-1" strike="noStrike">
                <a:solidFill>
                  <a:srgbClr val="ff0000"/>
                </a:solidFill>
                <a:latin typeface="Arial"/>
              </a:rPr>
              <a:t>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-1330920" y="32040"/>
            <a:ext cx="11313720" cy="60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c"/>
                </a:solidFill>
                <a:latin typeface="TH SarabunIT๙"/>
                <a:cs typeface="Cordia New"/>
              </a:rPr>
              <a:t>เป้าหมายในการทำงา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c"/>
                </a:solidFill>
                <a:latin typeface="TH SarabunIT๙"/>
                <a:ea typeface="Cordia New"/>
              </a:rPr>
              <a:t>1.</a:t>
            </a:r>
            <a:r>
              <a:rPr b="1" lang="th-TH" sz="2000" spc="-1" strike="noStrike">
                <a:solidFill>
                  <a:srgbClr val="0000cc"/>
                </a:solidFill>
                <a:latin typeface="TH SarabunIT๙"/>
                <a:cs typeface="Cordia New"/>
              </a:rPr>
              <a:t>กองทุนฯ มีอัตรางบประมาณคงเหลือ ประจำปี </a:t>
            </a:r>
            <a:r>
              <a:rPr b="1" lang="th-TH" sz="2000" spc="-1" strike="noStrike">
                <a:solidFill>
                  <a:srgbClr val="0000cc"/>
                </a:solidFill>
                <a:latin typeface="TH SarabunIT๙"/>
                <a:ea typeface="Cordia New"/>
              </a:rPr>
              <a:t>2560 </a:t>
            </a:r>
            <a:r>
              <a:rPr b="1" lang="th-TH" sz="2000" spc="-1" strike="noStrike">
                <a:solidFill>
                  <a:srgbClr val="0000cc"/>
                </a:solidFill>
                <a:latin typeface="TH SarabunIT๙"/>
                <a:cs typeface="Cordia New"/>
              </a:rPr>
              <a:t>ไม่เกินร้อยละ </a:t>
            </a:r>
            <a:r>
              <a:rPr b="1" lang="th-TH" sz="2000" spc="-1" strike="noStrike">
                <a:solidFill>
                  <a:srgbClr val="0000cc"/>
                </a:solidFill>
                <a:latin typeface="TH SarabunIT๙"/>
                <a:ea typeface="Cordia Ne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c"/>
                </a:solidFill>
                <a:latin typeface="TH SarabunIT๙"/>
                <a:ea typeface="Cordia New"/>
              </a:rPr>
              <a:t>2.</a:t>
            </a:r>
            <a:r>
              <a:rPr b="1" lang="th-TH" sz="2000" spc="-1" strike="noStrike">
                <a:solidFill>
                  <a:srgbClr val="0000cc"/>
                </a:solidFill>
                <a:latin typeface="TH SarabunIT๙"/>
                <a:cs typeface="Cordia New"/>
              </a:rPr>
              <a:t>อัตราผู้สูงอายุติดบ้านติดเตียง ในกองทุนฯ ที่ได้รับงบประมาณดูแลระยะยาวด้านสาธารณสุขสำหรับผู้สูงอาย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c"/>
                </a:solidFill>
                <a:latin typeface="TH SarabunIT๙"/>
                <a:cs typeface="Cordia New"/>
              </a:rPr>
              <a:t>ที่มีภาวะพึ่งพิง  ได้รับการวางแผนการดูแลรักษา </a:t>
            </a:r>
            <a:r>
              <a:rPr b="1" lang="th-TH" sz="2000" spc="-1" strike="noStrike">
                <a:solidFill>
                  <a:srgbClr val="0000cc"/>
                </a:solidFill>
                <a:latin typeface="TH SarabunIT๙"/>
                <a:ea typeface="Cordia New"/>
              </a:rPr>
              <a:t>(</a:t>
            </a:r>
            <a:r>
              <a:rPr b="1" lang="en-US" sz="2000" spc="-1" strike="noStrike">
                <a:solidFill>
                  <a:srgbClr val="0000cc"/>
                </a:solidFill>
                <a:latin typeface="TH SarabunIT๙"/>
                <a:ea typeface="Calibri"/>
              </a:rPr>
              <a:t>Care Plan) </a:t>
            </a:r>
            <a:r>
              <a:rPr b="1" lang="th-TH" sz="2000" spc="-1" strike="noStrike">
                <a:solidFill>
                  <a:srgbClr val="0000cc"/>
                </a:solidFill>
                <a:latin typeface="TH SarabunIT๙"/>
                <a:cs typeface="Cordia New"/>
              </a:rPr>
              <a:t>ร้อยละ </a:t>
            </a:r>
            <a:r>
              <a:rPr b="1" lang="th-TH" sz="2000" spc="-1" strike="noStrike">
                <a:solidFill>
                  <a:srgbClr val="0000cc"/>
                </a:solidFill>
                <a:latin typeface="TH SarabunIT๙"/>
                <a:ea typeface="Cordia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c"/>
                </a:solidFill>
                <a:latin typeface="TH SarabunIT๙"/>
                <a:ea typeface="Cordia New"/>
              </a:rPr>
              <a:t>3.</a:t>
            </a:r>
            <a:r>
              <a:rPr b="1" lang="th-TH" sz="2000" spc="-1" strike="noStrike">
                <a:solidFill>
                  <a:srgbClr val="0000cc"/>
                </a:solidFill>
                <a:latin typeface="TH SarabunIT๙"/>
                <a:cs typeface="Cordia New"/>
              </a:rPr>
              <a:t>เพื่อให้กองทุนฯ ที่ได้รับงบประมาณดูแลระยะยาวด้านสาธารณสุขสำหรับผู้สูงอายุที่มีภาวะพึ่งพิ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c"/>
                </a:solidFill>
                <a:latin typeface="TH SarabunIT๙"/>
                <a:cs typeface="Cordia New"/>
              </a:rPr>
              <a:t>มีการเบิกจ่ายงบประมาณ </a:t>
            </a:r>
            <a:r>
              <a:rPr b="1" lang="en-US" sz="2000" spc="-1" strike="noStrike">
                <a:solidFill>
                  <a:srgbClr val="0000cc"/>
                </a:solidFill>
                <a:latin typeface="TH SarabunIT๙"/>
                <a:ea typeface="SimSun"/>
              </a:rPr>
              <a:t>Long Term Care </a:t>
            </a:r>
            <a:r>
              <a:rPr b="1" lang="th-TH" sz="2000" spc="-1" strike="noStrike">
                <a:solidFill>
                  <a:srgbClr val="0000cc"/>
                </a:solidFill>
                <a:latin typeface="TH SarabunIT๙"/>
                <a:cs typeface="Cordia New"/>
              </a:rPr>
              <a:t>ร้อยละ </a:t>
            </a:r>
            <a:r>
              <a:rPr b="1" lang="th-TH" sz="2000" spc="-1" strike="noStrike">
                <a:solidFill>
                  <a:srgbClr val="0000cc"/>
                </a:solidFill>
                <a:latin typeface="TH SarabunIT๙"/>
                <a:ea typeface="Cordia New"/>
              </a:rPr>
              <a:t>100 </a:t>
            </a:r>
            <a:r>
              <a:rPr b="1" lang="th-TH" sz="2000" spc="-1" strike="noStrike">
                <a:solidFill>
                  <a:srgbClr val="0000cc"/>
                </a:solidFill>
                <a:latin typeface="TH SarabunIT๙"/>
                <a:cs typeface="Cordia New"/>
              </a:rPr>
              <a:t>ในปีงบประมาณ </a:t>
            </a:r>
            <a:r>
              <a:rPr b="1" lang="th-TH" sz="2000" spc="-1" strike="noStrike">
                <a:solidFill>
                  <a:srgbClr val="0000cc"/>
                </a:solidFill>
                <a:latin typeface="TH SarabunIT๙"/>
                <a:ea typeface="Cordia New"/>
              </a:rPr>
              <a:t>25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1:56:50Z</dcterms:created>
  <dc:creator>Windows User</dc:creator>
  <dc:description/>
  <dc:language>en-US</dc:language>
  <cp:lastModifiedBy>it</cp:lastModifiedBy>
  <dcterms:modified xsi:type="dcterms:W3CDTF">2017-04-05T10:57:37Z</dcterms:modified>
  <cp:revision>147</cp:revision>
  <dc:subject/>
  <dc:title>Slide 1</dc:title>
</cp:coreProperties>
</file>